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7471-DF23-4BF1-A5C2-9CF1D48CD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184E-AA17-4808-B6DD-DC28B1F7D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6F46-F328-4AEE-B15A-AD842F1EF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BA80-2060-4A7D-AD6D-F8016FDE0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103F-9F65-4FDE-BC8E-E9F7B0B70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A09F-E267-4A98-8A8D-339C62640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76A9-3538-42CD-B2A6-0B6816A04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186A-A478-4F3A-ACEA-A84DF313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FA1D-1CEC-423C-B3D0-BD43DD2C0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157C-ABBC-4AC5-9BDD-A3395037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68F7-ACA0-44F1-A714-E0FF232D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9DE8-BD5F-45C5-B329-772066AB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82596-25B8-4F89-9FEB-8B3EEE2A53E9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24588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000000"/>
                </a:solidFill>
                <a:latin typeface="Book Antiqua"/>
              </a:rPr>
              <a:t>TRABAJO FINAL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1 CuadroTexto"/>
          <p:cNvSpPr/>
          <p:nvPr/>
        </p:nvSpPr>
        <p:spPr>
          <a:xfrm>
            <a:off x="571680" y="880920"/>
            <a:ext cx="80722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Se realizará un </a:t>
            </a:r>
            <a:r>
              <a:rPr b="1" lang="es-ES" sz="2800" spc="-1" strike="noStrike">
                <a:solidFill>
                  <a:srgbClr val="000000"/>
                </a:solidFill>
                <a:latin typeface="Book Antiqua"/>
              </a:rPr>
              <a:t>Plan de Medios 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para diferentes empresas de la región, de acuerdo a los objetivos y las necesidades de comunicación que se requiera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El presupuesto con el que cuenta cada una de las empresas para realizar su estrategia de comunicación es de </a:t>
            </a:r>
            <a:r>
              <a:rPr b="1" lang="es-ES" sz="2800" spc="-1" strike="noStrike">
                <a:solidFill>
                  <a:srgbClr val="000000"/>
                </a:solidFill>
                <a:latin typeface="Book Antiqua"/>
              </a:rPr>
              <a:t>300 mil pesos, IVA incluid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Los medios que interesan a estas empresas son la radio, televisión, prensa, revistas, internet y publicidad exteri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1 CuadroTexto"/>
          <p:cNvSpPr/>
          <p:nvPr/>
        </p:nvSpPr>
        <p:spPr>
          <a:xfrm>
            <a:off x="571680" y="642960"/>
            <a:ext cx="8001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 Antiqua"/>
              </a:rPr>
              <a:t>1.- Selecta de Guaym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Luego de un éxito en el mercado nacional e internacional, Selecta de Guaymas, en lo referente a la comercialización de sardina enlatada, quiere realizar una agresiva campaña en el mercado local (Guaymas-Empalme), pues considera que es necesaria, no sólo para la venta de producto, sino para mejorar la imagen de la empresa frente a los consumidores y la sociedad loc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 CuadroTexto"/>
          <p:cNvSpPr/>
          <p:nvPr/>
        </p:nvSpPr>
        <p:spPr>
          <a:xfrm>
            <a:off x="500040" y="1028880"/>
            <a:ext cx="8072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2.- </a:t>
            </a:r>
            <a:r>
              <a:rPr b="1" lang="es-ES" sz="2800" spc="-1" strike="noStrike">
                <a:solidFill>
                  <a:srgbClr val="000000"/>
                </a:solidFill>
                <a:latin typeface="Book Antiqua"/>
              </a:rPr>
              <a:t>Maquilas Tetakaw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Esta empresa busca un objetivo primordial: MEJORAR SU IMAGEN, luego de la pérdida de empleos y las críticas por los bajos salarios y los horarios extendidos para los trabajadores, la empresa desea realizar una campaña intensa en la región Guaymas y Empalme para mejorar su imagen ante la socieda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1 CuadroTexto"/>
          <p:cNvSpPr/>
          <p:nvPr/>
        </p:nvSpPr>
        <p:spPr>
          <a:xfrm>
            <a:off x="571680" y="595440"/>
            <a:ext cx="8001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3.-</a:t>
            </a:r>
            <a:r>
              <a:rPr b="1" lang="es-ES" sz="2800" spc="-1" strike="noStrike">
                <a:solidFill>
                  <a:srgbClr val="000000"/>
                </a:solidFill>
                <a:latin typeface="Book Antiqua"/>
              </a:rPr>
              <a:t> Santa F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La llegada de Wall Mart y SAMS, así como la apertura de un nuevo Mercado Soriana, han provocado en Guaymas pérdidas de utilidades a la relativamente nueva marca Santa Fé, en el negocio de los supermercad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La empresa necesita posicionar urgentemente su marca en Guaymas, pues de lo contrario tendrán que cerrar sus tiendas en la ciuda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1 CuadroTexto"/>
          <p:cNvSpPr/>
          <p:nvPr/>
        </p:nvSpPr>
        <p:spPr>
          <a:xfrm>
            <a:off x="500040" y="571680"/>
            <a:ext cx="81439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4.- </a:t>
            </a:r>
            <a:r>
              <a:rPr b="1" lang="es-ES" sz="2800" spc="-1" strike="noStrike">
                <a:solidFill>
                  <a:srgbClr val="000000"/>
                </a:solidFill>
                <a:latin typeface="Book Antiqua"/>
              </a:rPr>
              <a:t>H. Ayuntamiento de Guaym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La credibilidad de los ciudadanos en el nuevo Gobierno Municipal se esfumó, es necesaria una campaña en medios que posibilite recuperar esa confianza de la población, sin embargo existe un problema: No hay suficientes recursos para realizar una campaña intensa y agresiv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El Municipio quiere que sus obras y programas sociales se difundan en total apego a la Ley y con un impacto eficaz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 CuadroTexto"/>
          <p:cNvSpPr/>
          <p:nvPr/>
        </p:nvSpPr>
        <p:spPr>
          <a:xfrm>
            <a:off x="571680" y="714240"/>
            <a:ext cx="80722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5.- </a:t>
            </a:r>
            <a:r>
              <a:rPr b="1" lang="es-ES" sz="2800" spc="-1" strike="noStrike">
                <a:solidFill>
                  <a:srgbClr val="000000"/>
                </a:solidFill>
                <a:latin typeface="Book Antiqua"/>
              </a:rPr>
              <a:t>Colegio Méx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Este colegio (preescolar y primaria) llega a un aparente saturado mercado guaymense en cuanto a la educación básica privada. Sus competidores como Colegio Americano, Instituto Regional o Instituto Cervino, gozan ya de un reconocimiento por parte de la comunida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Colegio México necesita realizar una campaña estratégica de lanzamiento en medios, pero cuenta con poco presupuest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2T15:29:17Z</dcterms:created>
  <dc:creator>Manuel Marquez</dc:creator>
  <dc:description/>
  <dc:language>en-US</dc:language>
  <cp:lastModifiedBy>Manuel Marquez</cp:lastModifiedBy>
  <dcterms:modified xsi:type="dcterms:W3CDTF">2003-01-12T15:37:30Z</dcterms:modified>
  <cp:revision>1</cp:revision>
  <dc:subject/>
  <dc:title>TRABAJO FINAL</dc:title>
</cp:coreProperties>
</file>